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344C-1C35-41CA-8FA4-CDFDDE2F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5B8B-1C6F-441D-A290-0D76CAEF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DF4-E4FE-441A-864B-842B59B3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4AFA-D9A1-4518-8D63-CB1A50E5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697B-2327-493E-B222-10ABC3D4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2DB4-8A06-4826-B5E8-0A6A804C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746C-B90A-4F15-BD3E-DA30A157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9E2-6B2D-41AD-8931-1AF7E932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6AC2-E56B-45AE-895A-A6782C90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0CC4-86D2-43CA-AEE7-E2F01680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524-98F8-4736-8163-20599F9D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3C3-6EEF-4B46-9821-D9C998F7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5AE5-B5CC-4F66-B621-2237D889E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84360" y="2205000"/>
            <a:ext cx="1440000" cy="1295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56000" y="3860640"/>
            <a:ext cx="194472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5076360" y="3860640"/>
            <a:ext cx="358920" cy="13687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6084720" y="3141720"/>
            <a:ext cx="503280" cy="15112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61440" y="51577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INHA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87240" y="285264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INHA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4160" y="3645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9800" y="191628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INHA 15 =12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54:16Z</dcterms:created>
  <dc:creator>ce</dc:creator>
  <dc:description/>
  <dc:language>en-US</dc:language>
  <cp:lastModifiedBy>ce</cp:lastModifiedBy>
  <dcterms:modified xsi:type="dcterms:W3CDTF">2008-09-09T16:54:41Z</dcterms:modified>
  <cp:revision>1</cp:revision>
  <dc:subject/>
  <dc:title>Slide 1</dc:title>
</cp:coreProperties>
</file>